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2B34-9D67-48F4-881A-C22ECE38C2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L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08B-6869-4911-80E3-227BDD3C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27A-C9DB-481F-B0D8-C62EC39D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211-EA59-4520-A62B-A035D6B5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879-FFF4-498D-BE1A-3F263C3B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9C193-6999-454F-9C28-F991DA90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96A92-0DA7-46F0-A0FE-AD8EA562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91FDF-B70B-479B-A8F7-AEE7BC52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70EDF-CFD0-4D7E-848A-32F690DF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D913D-F720-483F-B78A-0BF86611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5646A-D35C-4D0B-84F8-CB3E2B7E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755CB-E43E-429E-A953-A86A7F89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507-8548-488F-9791-1AE27E96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8D73B-BEBE-47C8-97B4-9699BCB2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66586-04A1-4872-9569-1554CDC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47539-A86C-4BC0-A967-1D229E3F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EE2CE-20B5-4D41-B75F-64EC8214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90508-1CEE-4317-BE5E-595DC2DF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27F7-EC41-4564-AEA9-D10ACC16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4D30-FAAD-42E7-A177-18A18F23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4D4C-D138-4356-BF38-B351C7E2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82BF-3DA0-43F8-BB40-EDAEC763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FBFB-FE31-4970-B6ED-003484D1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2B7-E950-4C61-BFFF-A9683EFB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5BD0-B0CF-437D-BA91-99C9624A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FFF8-6C3F-4A9B-B950-E0C00A93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67BA-F663-4651-9604-ED0EEC87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87E96-0C62-4DC4-98EA-A8A4F22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4F79-FA75-4641-BC1C-7377767D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007EB-92C4-4E26-ADB2-AC07BFF1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107C-72FB-4E4A-9B6C-222C507C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58A-97E7-49BC-A0F2-156DD99C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D51-04BE-42B9-93F0-45C7520B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ED7-4339-4627-B9FC-924F1D4C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247-E6F9-4AC8-969B-9173731C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46B-47AD-4869-B414-54245922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B65-FE03-414E-84D8-83A4F986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4747-DA37-45BE-BAB1-2DAD2671A5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D490-4E74-4699-A08E-F1599FC24C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E7AD-6E88-4FE0-8F00-EE8E8BD0EA9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The Syst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  <a:ea typeface="Arial"/>
              </a:rPr>
              <a:t>ème International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Bell MT"/>
              </a:rPr>
              <a:t>SI Un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372360" y="573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GEL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50920" y="476280"/>
          <a:ext cx="8713800" cy="5616720"/>
        </p:xfrm>
        <a:graphic>
          <a:graphicData uri="http://schemas.openxmlformats.org/drawingml/2006/table">
            <a:tbl>
              <a:tblPr/>
              <a:tblGrid>
                <a:gridCol w="3557520"/>
                <a:gridCol w="1452600"/>
                <a:gridCol w="2324160"/>
                <a:gridCol w="137952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Quant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232"/>
          <p:cNvSpPr/>
          <p:nvPr/>
        </p:nvSpPr>
        <p:spPr>
          <a:xfrm>
            <a:off x="324000" y="2276640"/>
            <a:ext cx="17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33"/>
          <p:cNvSpPr/>
          <p:nvPr/>
        </p:nvSpPr>
        <p:spPr>
          <a:xfrm>
            <a:off x="324000" y="278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4"/>
          <p:cNvSpPr/>
          <p:nvPr/>
        </p:nvSpPr>
        <p:spPr>
          <a:xfrm>
            <a:off x="324000" y="328464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5"/>
          <p:cNvSpPr/>
          <p:nvPr/>
        </p:nvSpPr>
        <p:spPr>
          <a:xfrm>
            <a:off x="324000" y="378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6"/>
          <p:cNvSpPr/>
          <p:nvPr/>
        </p:nvSpPr>
        <p:spPr>
          <a:xfrm>
            <a:off x="324000" y="429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8"/>
          <p:cNvSpPr/>
          <p:nvPr/>
        </p:nvSpPr>
        <p:spPr>
          <a:xfrm>
            <a:off x="250920" y="4797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9"/>
          <p:cNvSpPr/>
          <p:nvPr/>
        </p:nvSpPr>
        <p:spPr>
          <a:xfrm>
            <a:off x="324000" y="5516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2"/>
          <p:cNvSpPr/>
          <p:nvPr/>
        </p:nvSpPr>
        <p:spPr>
          <a:xfrm>
            <a:off x="450072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43"/>
          <p:cNvSpPr/>
          <p:nvPr/>
        </p:nvSpPr>
        <p:spPr>
          <a:xfrm>
            <a:off x="442764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Bradley Hand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4"/>
          <p:cNvSpPr/>
          <p:nvPr/>
        </p:nvSpPr>
        <p:spPr>
          <a:xfrm>
            <a:off x="435600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5"/>
          <p:cNvSpPr/>
          <p:nvPr/>
        </p:nvSpPr>
        <p:spPr>
          <a:xfrm>
            <a:off x="406728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 ,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46"/>
          <p:cNvSpPr/>
          <p:nvPr/>
        </p:nvSpPr>
        <p:spPr>
          <a:xfrm>
            <a:off x="4140360" y="429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Bell MT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7"/>
          <p:cNvSpPr/>
          <p:nvPr/>
        </p:nvSpPr>
        <p:spPr>
          <a:xfrm>
            <a:off x="4427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9"/>
          <p:cNvSpPr/>
          <p:nvPr/>
        </p:nvSpPr>
        <p:spPr>
          <a:xfrm>
            <a:off x="378000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52"/>
          <p:cNvSpPr/>
          <p:nvPr/>
        </p:nvSpPr>
        <p:spPr>
          <a:xfrm>
            <a:off x="5364000" y="227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3"/>
          <p:cNvSpPr/>
          <p:nvPr/>
        </p:nvSpPr>
        <p:spPr>
          <a:xfrm>
            <a:off x="5364000" y="2781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5"/>
          <p:cNvSpPr/>
          <p:nvPr/>
        </p:nvSpPr>
        <p:spPr>
          <a:xfrm>
            <a:off x="5364000" y="3284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6"/>
          <p:cNvSpPr/>
          <p:nvPr/>
        </p:nvSpPr>
        <p:spPr>
          <a:xfrm>
            <a:off x="5364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536400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8"/>
          <p:cNvSpPr/>
          <p:nvPr/>
        </p:nvSpPr>
        <p:spPr>
          <a:xfrm>
            <a:off x="5364000" y="479736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9"/>
          <p:cNvSpPr/>
          <p:nvPr/>
        </p:nvSpPr>
        <p:spPr>
          <a:xfrm>
            <a:off x="5364000" y="5445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0"/>
          <p:cNvSpPr/>
          <p:nvPr/>
        </p:nvSpPr>
        <p:spPr>
          <a:xfrm>
            <a:off x="78850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1"/>
          <p:cNvSpPr/>
          <p:nvPr/>
        </p:nvSpPr>
        <p:spPr>
          <a:xfrm>
            <a:off x="788508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62"/>
          <p:cNvSpPr/>
          <p:nvPr/>
        </p:nvSpPr>
        <p:spPr>
          <a:xfrm>
            <a:off x="78850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63"/>
          <p:cNvSpPr/>
          <p:nvPr/>
        </p:nvSpPr>
        <p:spPr>
          <a:xfrm>
            <a:off x="788508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4"/>
          <p:cNvSpPr/>
          <p:nvPr/>
        </p:nvSpPr>
        <p:spPr>
          <a:xfrm>
            <a:off x="799164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67"/>
          <p:cNvSpPr/>
          <p:nvPr/>
        </p:nvSpPr>
        <p:spPr>
          <a:xfrm>
            <a:off x="7812000" y="486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8"/>
          <p:cNvSpPr/>
          <p:nvPr/>
        </p:nvSpPr>
        <p:spPr>
          <a:xfrm>
            <a:off x="7956720" y="54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79280" y="260280"/>
          <a:ext cx="8642520" cy="6096240"/>
        </p:xfrm>
        <a:graphic>
          <a:graphicData uri="http://schemas.openxmlformats.org/drawingml/2006/table">
            <a:tbl>
              <a:tblPr/>
              <a:tblGrid>
                <a:gridCol w="2232000"/>
                <a:gridCol w="2784600"/>
                <a:gridCol w="1465200"/>
                <a:gridCol w="21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ysical Quant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fined as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Text Box 68"/>
          <p:cNvSpPr/>
          <p:nvPr/>
        </p:nvSpPr>
        <p:spPr>
          <a:xfrm>
            <a:off x="179280" y="220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179280" y="2708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7"/>
          <p:cNvSpPr/>
          <p:nvPr/>
        </p:nvSpPr>
        <p:spPr>
          <a:xfrm>
            <a:off x="17928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8"/>
          <p:cNvSpPr/>
          <p:nvPr/>
        </p:nvSpPr>
        <p:spPr>
          <a:xfrm>
            <a:off x="179280" y="35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0"/>
          <p:cNvSpPr/>
          <p:nvPr/>
        </p:nvSpPr>
        <p:spPr>
          <a:xfrm>
            <a:off x="17928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1"/>
          <p:cNvSpPr/>
          <p:nvPr/>
        </p:nvSpPr>
        <p:spPr>
          <a:xfrm>
            <a:off x="250920" y="450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2"/>
          <p:cNvSpPr/>
          <p:nvPr/>
        </p:nvSpPr>
        <p:spPr>
          <a:xfrm>
            <a:off x="17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3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5"/>
          <p:cNvSpPr/>
          <p:nvPr/>
        </p:nvSpPr>
        <p:spPr>
          <a:xfrm>
            <a:off x="25092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m  g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m = kg  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kg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042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 flipH="1">
            <a:off x="1692360" y="206064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268360" y="2133720"/>
            <a:ext cx="21600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2700360" y="2060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75564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1476360" y="26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1979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98764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91-einb2"/>
          <p:cNvPicPr/>
          <p:nvPr/>
        </p:nvPicPr>
        <p:blipFill>
          <a:blip r:embed="rId1"/>
          <a:stretch/>
        </p:blipFill>
        <p:spPr>
          <a:xfrm>
            <a:off x="6804000" y="139536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u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+2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971640" y="206064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1763640" y="206064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2484360" y="2060640"/>
            <a:ext cx="107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771640" y="2060640"/>
            <a:ext cx="136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82692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12400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27672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0672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 =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97164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55640" y="27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"/>
          <p:cNvSpPr/>
          <p:nvPr/>
        </p:nvSpPr>
        <p:spPr>
          <a:xfrm flipH="1">
            <a:off x="1763280" y="2205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476360" y="2781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95640" y="206064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12400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050920" y="249228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2987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missing?   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F =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r>
              <a:rPr b="0" lang="en-GB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7964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564000" y="24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Arial"/>
              </a:rPr>
              <a:t>k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m v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 = u + a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851280" y="184464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 = kg 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m = kg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924360" y="3987720"/>
            <a:ext cx="468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No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missing, so equation should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 = u +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) x = ut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T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) v = f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) I = 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) W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C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miss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F = mv -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53:17Z</dcterms:created>
  <dc:creator>gelms</dc:creator>
  <dc:description/>
  <dc:language>en-US</dc:language>
  <cp:lastModifiedBy>RomaK</cp:lastModifiedBy>
  <dcterms:modified xsi:type="dcterms:W3CDTF">2015-09-04T09:20:25Z</dcterms:modified>
  <cp:revision>20</cp:revision>
  <dc:subject/>
  <dc:title>SI Units</dc:title>
</cp:coreProperties>
</file>